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96270-682D-4C87-89E9-77AD7860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C5B9D-25A8-44B3-82E1-081E17DA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6EA0E-3FB2-4C27-A0F2-2E741769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950DB-DD72-4C34-965D-DFB6667E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93C7-9FA3-4BF6-8836-B7E1DF6B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C1C3-D4F8-493D-8D37-DE05E6C8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D7B3-62BD-47DB-BDF2-115197B5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EC25-6DEA-4E96-A5D9-32BB570D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C443-AC94-4F43-A5A4-46C92F0E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2893-6CA9-4FEB-A042-5DAF523B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9971-7ACF-44E4-8028-68806C7D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487BD-F2CC-47CF-AA78-59A002DB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4B0B-5C19-40F3-BFB3-55424A49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DBBF-D044-4BCC-AE2E-AA46B5A5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97B5-E93F-45EC-8AF3-F2CCF2E7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369F-5158-4D2E-A16A-71273463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B6A7-A3AE-4F4E-8C59-CAD5543A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62E7E-AF99-4F30-ADD1-AB900142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BBE7B-DAE7-4C8A-BA79-9CD1E58D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D17D5-75C1-46DB-A2E7-1DF0E643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97B40-84E0-4BC1-B5C4-89CF9426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4D883-CB98-45FD-A75D-E0977E45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BB64C-800A-4E54-8531-B8F13209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E22EF-A95E-4971-9646-79B14931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2562-C2F5-4BCA-8349-F23E65B0586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D164-BB0A-4661-A746-378B6E0F859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08000" y="801000"/>
            <a:ext cx="8928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01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44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всем съм убеден, Боже мой, съвсем съм убеден да съм Твой! Кат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чувам Твоя глас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ичко за измет аз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читам този час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Духа Тв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79316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Съвсем съм убеден, чуй ме Т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 слабостта ми Ти помогни! Сега тъй както съм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 Теб прибягвам аз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рцето ми Свой до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направ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179316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всем съм убеден и в Христа веселие имам, мир, свобода! Исусе, Ти всегд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милата Си ръ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оди ме към дом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небес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9-30T16:57:46Z</dcterms:modified>
  <cp:revision>73</cp:revision>
  <dc:subject/>
  <dc:title>Slide 1</dc:title>
</cp:coreProperties>
</file>